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40BB7A-1AFE-46FF-BEEF-4211EE981C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21419B-C693-499B-8763-CA28971492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3C3ABD-64CD-409A-9997-9FC72037F5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5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E60E9D-03F4-4795-B8EB-5C38415BB1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E86294-9DBE-436E-9225-F135B1E722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00778-71BF-4EF0-937C-614165781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9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60571-BA14-4FF5-826C-DE9E6525F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9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1C48C-DA57-4B24-89BC-04FCAC6B8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EE41A-196A-4292-BA5E-46A8DB353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8CE26-62FB-4D72-9DD1-2B2455513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0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49196-A8BC-451F-8263-B42EA638C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203D04-452B-42DC-80FD-6726A32340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0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63162-6972-41C4-945A-A777D73A6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0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CDBB0-F1D6-4492-8192-FAD57D924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1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943E5-BBD8-42FF-8C3A-EC9808983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9EDB7C-3BE8-4CB8-8261-6D472AD91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2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0D5F9-4549-4C2F-A57B-1E84C7AA0A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A2414C-367B-4BD3-B020-987A3E1EDE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B5EB26-5C6A-4477-BF9C-B9C8072A29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5D37A0-C201-454E-BF96-C3359825D4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66983F-C95A-48C3-96EC-A84FB8BFB9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1C0E06-BE41-408F-A936-1905B829C2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7DD7BD-CEF4-4B41-9FA7-9644E3DABF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B03497-2E0F-4548-AF80-E1B58CB2A68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FABE-2134-4414-83C0-A9B15CF19A65}"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0F37-7205-47A0-9AF2-0ED212148E9E}"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arm-Up Sentences</a:t>
            </a:r>
            <a:endParaRPr b="0" lang="en-US" sz="4200" spc="-1" strike="noStrike">
              <a:solidFill>
                <a:srgbClr val="ffffcc"/>
              </a:solidFill>
              <a:latin typeface="Tahoma"/>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er Payton he holds the NFL record for the most yards rushing in a career, and no one has ever made more than he ha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be Ruth were walked more then any other baseball player</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1760"/>
            <a:ext cx="7772400" cy="1431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Journal #17</a:t>
            </a:r>
            <a:endParaRPr b="0" lang="en-US" sz="4800" spc="-1" strike="noStrike">
              <a:solidFill>
                <a:srgbClr val="ffffcc"/>
              </a:solidFill>
              <a:latin typeface="Tahoma"/>
            </a:endParaRPr>
          </a:p>
        </p:txBody>
      </p:sp>
      <p:sp>
        <p:nvSpPr>
          <p:cNvPr id="129" name="PlaceHolder 2"/>
          <p:cNvSpPr>
            <a:spLocks noGrp="1"/>
          </p:cNvSpPr>
          <p:nvPr>
            <p:ph type="subTitle"/>
          </p:nvPr>
        </p:nvSpPr>
        <p:spPr>
          <a:xfrm>
            <a:off x="137160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thing people usually don’t know about me 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arm-Up Sentences</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n article for the british magazine, The Idler Helen Wilkinson writes, “Many young people critisize their managers for their “make-work” rather than “real-work” mentalit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R U confused?</a:t>
            </a:r>
            <a:r>
              <a:rPr b="0" lang="en-US" sz="2800" spc="-1" strike="noStrike">
                <a:solidFill>
                  <a:srgbClr val="ffffff"/>
                </a:solidFill>
                <a:latin typeface="Tahoma"/>
              </a:rPr>
              <a:t> is the actual name of Pamphlet written by a Senior English class at Fair haven Union high school in Fair haven, Vermont.  Explaining the mysteries of the S.a.t. exa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685800"/>
            <a:ext cx="7772400" cy="1432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Journal #18</a:t>
            </a:r>
            <a:endParaRPr b="0" lang="en-US" sz="4800" spc="-1" strike="noStrike">
              <a:solidFill>
                <a:srgbClr val="ffffcc"/>
              </a:solidFill>
              <a:latin typeface="Tahoma"/>
            </a:endParaRPr>
          </a:p>
        </p:txBody>
      </p:sp>
      <p:sp>
        <p:nvSpPr>
          <p:cNvPr id="133" name="PlaceHolder 2"/>
          <p:cNvSpPr>
            <a:spLocks noGrp="1"/>
          </p:cNvSpPr>
          <p:nvPr>
            <p:ph type="subTitle"/>
          </p:nvPr>
        </p:nvSpPr>
        <p:spPr>
          <a:xfrm>
            <a:off x="1295280" y="2514240"/>
            <a:ext cx="6400800" cy="2133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ree or disagree: “Most people are about as happy as they make up their minds to be.”</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braham Lincol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Friday Warm-up</a:t>
            </a:r>
            <a:endParaRPr b="0" lang="en-US" sz="4800" spc="-1" strike="noStrike">
              <a:solidFill>
                <a:srgbClr val="ffffcc"/>
              </a:solidFill>
              <a:latin typeface="Tahoma"/>
            </a:endParaRPr>
          </a:p>
        </p:txBody>
      </p:sp>
      <p:sp>
        <p:nvSpPr>
          <p:cNvPr id="135" name="PlaceHolder 2"/>
          <p:cNvSpPr>
            <a:spLocks noGrp="1"/>
          </p:cNvSpPr>
          <p:nvPr>
            <p:ph type="subTitle"/>
          </p:nvPr>
        </p:nvSpPr>
        <p:spPr>
          <a:xfrm>
            <a:off x="380520" y="1447560"/>
            <a:ext cx="8610840" cy="16002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d you know that punctuation doesn’t just include commas, apostrophes, and periods, but it also covers the spaces between words and lowercase letters?  Before punctuation was invented, texts were written in all caps without any spaces between words, making them hard to read.  Rewrite the following paragraph using punctuation:</a:t>
            </a:r>
            <a:endParaRPr b="0" lang="en-US" sz="2000" spc="-1" strike="noStrike">
              <a:solidFill>
                <a:srgbClr val="ffffff"/>
              </a:solidFill>
              <a:latin typeface="Tahoma"/>
            </a:endParaRPr>
          </a:p>
        </p:txBody>
      </p:sp>
      <p:sp>
        <p:nvSpPr>
          <p:cNvPr id="136" name=""/>
          <p:cNvSpPr/>
          <p:nvPr/>
        </p:nvSpPr>
        <p:spPr>
          <a:xfrm>
            <a:off x="304920" y="327672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SVERYDIFFICULTTOREADSENTENCESWHENTHERESABSOLUTELYNOPUNCTUATIONITMUSTHAVEBEENVERYDIFFICULTFORPEOPLETRYINGTOREADBEFORETHEINVENTIONOFPUNCTUATIONDONTYOUTHINKBYINSERTINGSPACESPUNCTUATIONMARKSANDLOWERCASELETTERSTHISPARAGRAPHWILLBECOMEMUCHEASIERTOREADWHATARELIEFTHATWILLB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6:47:40Z</dcterms:created>
  <dc:creator>tpagel</dc:creator>
  <dc:description/>
  <dc:language>en-US</dc:language>
  <cp:lastModifiedBy>tpagel</cp:lastModifiedBy>
  <dcterms:modified xsi:type="dcterms:W3CDTF">2010-06-03T16:47:57Z</dcterms:modified>
  <cp:revision>1</cp:revision>
  <dc:subject/>
  <dc:title>Warm-Up Sentences</dc:title>
</cp:coreProperties>
</file>